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whoosh.wav" ContentType="audio/x-wav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360-0600-4FA0-93E1-F81ACBD3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9AD-664E-468F-A799-613818F5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ABF-5596-4D16-9D84-4F60994A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2D4-06ED-4D41-83D2-4849AF28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C29-38B2-42F8-8F04-7FAA925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144-5E45-4FE2-8ED4-06E2644F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D59-305B-4402-8D0D-488BD0AF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B41-D902-4EAD-BA1A-9043407F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4A3-C1EB-4325-8289-B1F69FC6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E2B-D91E-47F4-AC8A-D88A816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0C3-2FFF-417F-A4EA-401A148B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14D-73D8-4E64-AFBF-36D0A7D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1147-CE4B-49EC-888E-CECAC2DBA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anheller.com/images/Africa/Mali/Timbuktu/Slideshow/img2.html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1752480"/>
            <a:ext cx="41148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Lego"/>
              </a:rPr>
              <a:t>Mans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Lego"/>
              </a:rPr>
              <a:t>Mus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Mansa M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Was related to Sun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Built mo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Built univer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de Timbuktu a center of learning and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de a hajj to Mec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Destroyed the economy of Egy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Lego"/>
              </a:rPr>
              <a:t>The Most Important Thing Mansa Musa Did Was…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Lego"/>
              </a:rPr>
              <a:t>Put Mali on the ma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That means he let the rest of the world know that Mali was a great and wealthy emp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Mansa M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sa Musa was the greatest king in Mali’s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He was the grandson or the grandnephew of Sun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sa Musa put Mali on the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2529000"/>
            <a:ext cx="3809880" cy="3017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Is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nsa Musa was a strict follower of Isl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Followers of Islam should make a hajj, or religious journey, to Mec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ecca is the holy city for the followers of Isl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From Mali to Mec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49600" cy="367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Mansa Musa’ Hajj to Mec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nsa Musa went through Egy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He gave away so much gold, he ruined the economy of Egypt for ten yea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78400" y="4191120"/>
            <a:ext cx="1793880" cy="23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1778040" cy="91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5880" y="4952880"/>
            <a:ext cx="1778040" cy="91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Lego"/>
              </a:rPr>
              <a:t>Mec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Lego"/>
              </a:rPr>
              <a:t>This is the mosque Mansa Musa visit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Lego"/>
              </a:rPr>
              <a:t>People still go to Mecca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4038840" cy="2287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Lego"/>
              </a:rPr>
              <a:t>The Return H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nsa Musa brought scholars back with him from Mecc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These were men who became teachers.</a:t>
            </a:r>
            <a:r>
              <a:rPr b="0" lang="en-US" sz="2400" spc="-1" strike="noStrike">
                <a:solidFill>
                  <a:srgbClr val="ffffcc"/>
                </a:solidFill>
                <a:latin typeface="Lego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nsa Musa brought a famous Spanish architect back als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An architect designs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Timbuktu- center of wo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sa Musa built a beautiful mosque in Timbuk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y people worshipped the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The mosque was made of m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084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Click for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Timbuktu- center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sa Musa built three universities in Timbuk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There were many ancient Grecian and Roman books in the libr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93760" y="1981080"/>
            <a:ext cx="279396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2:15:01Z</dcterms:created>
  <dc:creator>Anne Craighead</dc:creator>
  <dc:description/>
  <dc:language>en-US</dc:language>
  <cp:lastModifiedBy>johndegaspe</cp:lastModifiedBy>
  <dcterms:modified xsi:type="dcterms:W3CDTF">2012-03-01T17:11:59Z</dcterms:modified>
  <cp:revision>9</cp:revision>
  <dc:subject/>
  <dc:title>PowerPoint Presentation</dc:title>
</cp:coreProperties>
</file>